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Click to move the slide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1E01-8484-49F7-BDAD-F18541A34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B901-C5FB-4FC2-9886-081331863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27D1-20E7-4ABC-B895-BD612467A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AC3A-C53A-4A19-9525-4EAFBF7E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5B5B-B2DE-4A4F-8B7B-AE687FE37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CDE8-B8F3-4889-B5F4-F5D5434B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8861-C2A4-40B1-8FEC-30A375B6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547E-AC9F-482D-834A-97EDD22B3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712F-B7B3-4F4F-9529-332B38394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8E0C-A16F-4F4D-9390-218C915F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0E18-68F8-4DC6-82CC-DB732EFA6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9684-399F-4BB9-BC75-850551F23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B33B-6FAD-40AC-AAE7-51192D276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78F4-29DB-4635-822C-CBBB7D4E3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63F1-8AC4-4D98-BC4A-8DF47607C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7A8A-BA6B-4CBA-922B-68686C597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BBDF-1BB8-4A3E-8E74-019F031B7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3C24-9C98-45D6-B705-AFFF1073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84EC-AF97-4ED4-96D0-4F0B29281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46E7-223C-4E04-B26C-715B0B96C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FA82-4E4F-428E-8C20-2C706BA78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E1F8-8402-4D3E-A6CA-42189385A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BF60-3B2A-4D47-9DA8-0128D9F5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467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4045320"/>
            <a:ext cx="7467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506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8920" y="1219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73960" y="1219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4045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48920" y="4045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73960" y="4045320"/>
            <a:ext cx="24044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2193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50680" y="4045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0680" y="1219320"/>
            <a:ext cx="36442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045320"/>
            <a:ext cx="7467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Click to edit the title text format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193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spcBef>
                <a:spcPts val="70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32080" indent="-289080">
              <a:spcBef>
                <a:spcPts val="700"/>
              </a:spcBef>
              <a:buClr>
                <a:srgbClr val="b6b6b6"/>
              </a:buClr>
              <a:buSzPct val="14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7748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11788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11788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11788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Line 8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EBifN69gcKY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895480" y="5762520"/>
            <a:ext cx="4800600" cy="398880"/>
          </a:xfrm>
          <a:prstGeom prst="rect">
            <a:avLst/>
          </a:prstGeom>
          <a:noFill/>
          <a:ln w="12600">
            <a:solidFill>
              <a:srgbClr val="ac7300"/>
            </a:solidFill>
            <a:miter/>
          </a:ln>
          <a:effectLst>
            <a:outerShdw dist="17819" dir="2700000" blurRad="0" rotWithShape="0">
              <a:srgbClr val="674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athan Hale H.S.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West Allis, W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752480" y="533520"/>
            <a:ext cx="7010640" cy="475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00"/>
                </a:solidFill>
                <a:latin typeface="AuntJudy"/>
              </a:rPr>
              <a:t>From Mercantilism to </a:t>
            </a:r>
            <a:br>
              <a:rPr sz="5400"/>
            </a:br>
            <a:r>
              <a:rPr b="0" lang="en-US" sz="5400" spc="-1" strike="noStrike">
                <a:solidFill>
                  <a:srgbClr val="996600"/>
                </a:solidFill>
                <a:latin typeface="AuntJudy"/>
              </a:rPr>
              <a:t>Capitalism:</a:t>
            </a:r>
            <a:br>
              <a:rPr sz="5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The Evolution</a:t>
            </a:r>
            <a:br>
              <a:rPr sz="3400"/>
            </a:b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of the</a:t>
            </a:r>
            <a:br>
              <a:rPr sz="3400"/>
            </a:b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Modern Capitalist System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752480" y="519120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ritis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181480" y="519120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renc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4"/>
          <p:cNvSpPr/>
          <p:nvPr/>
        </p:nvSpPr>
        <p:spPr>
          <a:xfrm>
            <a:off x="304812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5"/>
          <p:cNvSpPr/>
          <p:nvPr/>
        </p:nvSpPr>
        <p:spPr>
          <a:xfrm flipH="1">
            <a:off x="457164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6" descr="NuclearExplosion"/>
          <p:cNvPicPr/>
          <p:nvPr/>
        </p:nvPicPr>
        <p:blipFill>
          <a:blip r:embed="rId1"/>
          <a:stretch/>
        </p:blipFill>
        <p:spPr>
          <a:xfrm>
            <a:off x="3838680" y="5038560"/>
            <a:ext cx="733320" cy="828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914400" y="5699160"/>
            <a:ext cx="68580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t Necessity                Fort Duques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George Washington      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Delaware &amp; Shawn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Indian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8" descr="OhioRiverValley-1753"/>
          <p:cNvPicPr/>
          <p:nvPr/>
        </p:nvPicPr>
        <p:blipFill>
          <a:blip r:embed="rId2"/>
          <a:stretch/>
        </p:blipFill>
        <p:spPr>
          <a:xfrm>
            <a:off x="4402080" y="1219320"/>
            <a:ext cx="268452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1371600" y="2286000"/>
            <a:ext cx="2819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hio Valle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4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The First Clash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rench&amp;IndianWar-1763"/>
          <p:cNvPicPr/>
          <p:nvPr/>
        </p:nvPicPr>
        <p:blipFill>
          <a:blip r:embed="rId1"/>
          <a:stretch/>
        </p:blipFill>
        <p:spPr>
          <a:xfrm>
            <a:off x="1676520" y="1066680"/>
            <a:ext cx="5867280" cy="54673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85" name="Text Box 3"/>
          <p:cNvSpPr/>
          <p:nvPr/>
        </p:nvSpPr>
        <p:spPr>
          <a:xfrm>
            <a:off x="1447920" y="152280"/>
            <a:ext cx="632448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63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152280"/>
            <a:ext cx="87631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BilboDisplay"/>
              </a:rPr>
              <a:t>The Partitions of Poland</a:t>
            </a:r>
            <a:endParaRPr b="1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924680" y="3276720"/>
            <a:ext cx="1219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lboDisplay"/>
              </a:rPr>
              <a:t>- 177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lboDisplay"/>
              </a:rPr>
              <a:t>- 1793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ilboDisplay"/>
              </a:rPr>
              <a:t>- 1795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4" descr="map-Partitions of Poland-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71600" y="914400"/>
            <a:ext cx="6553080" cy="5257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447920" y="152280"/>
            <a:ext cx="7467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BilboDisplay"/>
              </a:rPr>
              <a:t>Russian Expansionism in the Late 18c</a:t>
            </a:r>
            <a:endParaRPr b="1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3" descr="PartitionOfPoland&amp;RussianExpansion-18c"/>
          <p:cNvPicPr/>
          <p:nvPr/>
        </p:nvPicPr>
        <p:blipFill>
          <a:blip r:embed="rId1"/>
          <a:stretch/>
        </p:blipFill>
        <p:spPr>
          <a:xfrm>
            <a:off x="2666880" y="1447920"/>
            <a:ext cx="5486400" cy="5045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Francois Quesnay  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(1694-1774)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4120" y="1219320"/>
            <a:ext cx="3504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rgeon who turned to medicine because of failing eyes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was concerned about the state of the French economy, especially of French agricul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4" descr="Francois Quesnay-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00200" y="1371600"/>
            <a:ext cx="3527280" cy="396252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Quesnay</a:t>
            </a:r>
            <a:r>
              <a:rPr b="0" lang="en-US" sz="3800" spc="-1" strike="noStrike">
                <a:solidFill>
                  <a:srgbClr val="996600"/>
                </a:solidFill>
                <a:latin typeface="CheshireBroad"/>
              </a:rPr>
              <a:t>’</a:t>
            </a: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s Economic Theori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ableau Économiq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1759]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 reaction against the extreme mercantilist policies of Colbert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economic class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roprietary class”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landowners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roductive class”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agricultural laborers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896040" indent="-334440">
              <a:spcBef>
                <a:spcPts val="524"/>
              </a:spcBef>
              <a:buClr>
                <a:srgbClr val="ac7300"/>
              </a:buClr>
              <a:buSzPct val="11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terile class”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artisans &amp; merchants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4440" indent="-33444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ive work was the source of national weal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4" descr="Quesnay-Tableau Economique"/>
          <p:cNvPicPr/>
          <p:nvPr/>
        </p:nvPicPr>
        <p:blipFill>
          <a:blip r:embed="rId1"/>
          <a:srcRect l="0" t="0" r="0" b="12190"/>
          <a:stretch/>
        </p:blipFill>
        <p:spPr>
          <a:xfrm>
            <a:off x="5562720" y="1219320"/>
            <a:ext cx="3305160" cy="487656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Quesnay</a:t>
            </a:r>
            <a:r>
              <a:rPr b="0" lang="en-US" sz="3800" spc="-1" strike="noStrike">
                <a:solidFill>
                  <a:srgbClr val="996600"/>
                </a:solidFill>
                <a:latin typeface="CheshireBroad"/>
              </a:rPr>
              <a:t>’</a:t>
            </a: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s Economic Theori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086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the wealth of the nation was derived from agricul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4128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griculture was the productive sector of an economy.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x only the landowning cl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4" descr="P_Brueghel the Elder-The Harvester - 156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00400" y="2590920"/>
            <a:ext cx="4572000" cy="339696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752480" y="2489040"/>
            <a:ext cx="7010640" cy="131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untJudy"/>
              </a:rPr>
              <a:t>Capitalism</a:t>
            </a:r>
            <a:endParaRPr b="1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inv_hand_finger"/>
          <p:cNvPicPr/>
          <p:nvPr/>
        </p:nvPicPr>
        <p:blipFill>
          <a:blip r:embed="rId1">
            <a:lum contrast="18000"/>
          </a:blip>
          <a:srcRect l="0" t="0" r="0" b="13337"/>
          <a:stretch/>
        </p:blipFill>
        <p:spPr>
          <a:xfrm>
            <a:off x="3505320" y="1295280"/>
            <a:ext cx="3429000" cy="2971800"/>
          </a:xfrm>
          <a:prstGeom prst="rect">
            <a:avLst/>
          </a:prstGeom>
          <a:ln w="9360">
            <a:solidFill>
              <a:srgbClr val="b97b3d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4952880"/>
            <a:ext cx="693432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re, there it is again—the invisible hand of the marketplace giving us the finger.</a:t>
            </a:r>
            <a:endParaRPr b="0" lang="en-US" sz="2600" spc="-1" strike="noStrike">
              <a:solidFill>
                <a:srgbClr val="996600"/>
              </a:solidFill>
              <a:latin typeface="AuntJu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Adam Smith  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(1723-1790)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76920" y="1066320"/>
            <a:ext cx="4038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ointed to the chair of logic in 1751 at the University of Glasgow, Scotlan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1752 he transferred to the chair of philosoph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n his travels to France, he was influenced by the writings of the physiocrat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776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The Theory of Moral Sentiments and an Inquiry Into the Nature of Causes of the Wealth of Nation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s publish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499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vehement attack of the mercantilist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10" descr="Adam Smith-1"/>
          <p:cNvPicPr/>
          <p:nvPr/>
        </p:nvPicPr>
        <p:blipFill>
          <a:blip r:embed="rId1"/>
          <a:stretch/>
        </p:blipFill>
        <p:spPr>
          <a:xfrm>
            <a:off x="1523880" y="1143000"/>
            <a:ext cx="3262320" cy="459252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752480" y="2489040"/>
            <a:ext cx="7010640" cy="131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untJudy"/>
              </a:rPr>
              <a:t>Mercantilism</a:t>
            </a:r>
            <a:endParaRPr b="1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The Wealth of Nations  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(1776)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pic>
        <p:nvPicPr>
          <p:cNvPr id="107" name="Picture 7" descr="Wealth of Nations-2"/>
          <p:cNvPicPr/>
          <p:nvPr/>
        </p:nvPicPr>
        <p:blipFill>
          <a:blip r:embed="rId1"/>
          <a:stretch/>
        </p:blipFill>
        <p:spPr>
          <a:xfrm>
            <a:off x="1782720" y="1447920"/>
            <a:ext cx="3038400" cy="476244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  <p:pic>
        <p:nvPicPr>
          <p:cNvPr id="108" name="Picture 8" descr="Wealth of Nations-1"/>
          <p:cNvPicPr/>
          <p:nvPr/>
        </p:nvPicPr>
        <p:blipFill>
          <a:blip r:embed="rId2"/>
          <a:stretch/>
        </p:blipFill>
        <p:spPr>
          <a:xfrm>
            <a:off x="5211720" y="1447920"/>
            <a:ext cx="3551400" cy="4800600"/>
          </a:xfrm>
          <a:prstGeom prst="rect">
            <a:avLst/>
          </a:prstGeom>
          <a:ln w="9360">
            <a:solidFill>
              <a:srgbClr val="b97b3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Adam Smith</a:t>
            </a:r>
            <a:r>
              <a:rPr b="0" lang="en-US" sz="3400" spc="-1" strike="noStrike">
                <a:solidFill>
                  <a:srgbClr val="996600"/>
                </a:solidFill>
                <a:latin typeface="CheshireBroad"/>
              </a:rPr>
              <a:t>’</a:t>
            </a:r>
            <a:r>
              <a:rPr b="0" lang="en-US" sz="3400" spc="-1" strike="noStrike">
                <a:solidFill>
                  <a:srgbClr val="996600"/>
                </a:solidFill>
                <a:latin typeface="AuntJudy"/>
              </a:rPr>
              <a:t>s Attack on Mercantilism</a:t>
            </a:r>
            <a:endParaRPr b="0" lang="en-US" sz="34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was making a political argument, NOT an economic on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t of the argument was for new economic policy, but.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An essential part of the argument was for new social and political arrangements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argued that the basic unit for social analysis should be th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ation, not the 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was against the belief that trade was a zero-sum g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It was a positive-sum game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334800">
              <a:lnSpc>
                <a:spcPct val="90000"/>
              </a:lnSpc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Both nations gained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40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440" y="137124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s and services are produced for profitable exchang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labor power is a commodity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BOR IS THE SOURCE OF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2057400" y="3962520"/>
            <a:ext cx="1752480" cy="20574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Businesses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6629400" y="3962520"/>
            <a:ext cx="1752480" cy="205740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Households</a:t>
            </a:r>
            <a:endParaRPr b="1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276720" y="403848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7"/>
          <p:cNvSpPr/>
          <p:nvPr/>
        </p:nvSpPr>
        <p:spPr>
          <a:xfrm flipH="1">
            <a:off x="3352680" y="59436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3657600" y="4419720"/>
            <a:ext cx="31240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657600" y="5562720"/>
            <a:ext cx="31240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343400" y="3733920"/>
            <a:ext cx="198108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282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Goods &amp; Service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038480" y="5897520"/>
            <a:ext cx="266724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282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abor &amp; Investments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267080" y="4373640"/>
            <a:ext cx="221004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282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mic Sans MS"/>
              </a:rPr>
              <a:t>Consumer Spending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267080" y="5257800"/>
            <a:ext cx="221004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282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mic Sans MS"/>
              </a:rPr>
              <a:t>Wages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600" spc="-1" strike="noStrike">
                <a:solidFill>
                  <a:srgbClr val="ff4519"/>
                </a:solidFill>
                <a:latin typeface="Comic Sans MS"/>
              </a:rPr>
              <a:t>“Invisible Hand”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of the mark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75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Problem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How do we survive in a world where we must depend on many others, but where humans are by nature self-interested individuals??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Solution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free market, while appearing chaotic and unrestrained, is actually guided to produce the right amount and variety of goods by a so-called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invisible hand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refore, the basi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market mechanism is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elf-regulating!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Picture 4" descr="invisiblehand"/>
          <p:cNvPicPr/>
          <p:nvPr/>
        </p:nvPicPr>
        <p:blipFill>
          <a:blip r:embed="rId2"/>
          <a:stretch/>
        </p:blipFill>
        <p:spPr>
          <a:xfrm>
            <a:off x="6243480" y="4419720"/>
            <a:ext cx="1909800" cy="2071440"/>
          </a:xfrm>
          <a:prstGeom prst="rect">
            <a:avLst/>
          </a:prstGeom>
          <a:ln w="9360">
            <a:solidFill>
              <a:srgbClr val="b97b3d"/>
            </a:solidFill>
            <a:miter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440" y="11426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ividuals seeking success are driven by self-interes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4519"/>
                </a:solidFill>
                <a:latin typeface="Comic Sans MS"/>
              </a:rPr>
              <a:t>Profit Mot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49"/>
              </a:spcBef>
              <a:buClr>
                <a:srgbClr val="808080"/>
              </a:buClr>
              <a:buSzPct val="8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600" spc="-1" strike="noStrike">
                <a:solidFill>
                  <a:srgbClr val="ff4519"/>
                </a:solidFill>
                <a:latin typeface="Comic Sans MS"/>
              </a:rPr>
              <a:t>Law of Supply and Deman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082520" indent="-39996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Individuals who are free to pursue their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elf-interest will produce goods and services that others want, at prices others will b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willing to pay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pic>
        <p:nvPicPr>
          <p:cNvPr id="128" name="Picture 5" descr="supply_and_demand"/>
          <p:cNvPicPr/>
          <p:nvPr/>
        </p:nvPicPr>
        <p:blipFill>
          <a:blip r:embed="rId1"/>
          <a:stretch/>
        </p:blipFill>
        <p:spPr>
          <a:xfrm>
            <a:off x="3600360" y="3608280"/>
            <a:ext cx="31053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Basic Capitalist Principles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7010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buClr>
                <a:srgbClr val="808080"/>
              </a:buClr>
              <a:buSzPct val="85000"/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4519"/>
                </a:solidFill>
                <a:latin typeface="Comic Sans MS"/>
              </a:rPr>
              <a:t>Law of Competition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4440" indent="-399960">
              <a:spcBef>
                <a:spcPts val="55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competitive market system compels producers to be increasingly efficient, and to respond to the desires of consum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24"/>
              </a:spcBef>
              <a:buClr>
                <a:srgbClr val="808080"/>
              </a:buClr>
              <a:buSzPct val="85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social division of labor will maximize the satisfaction of individual wants and needs, given scarce resources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24"/>
              </a:spcBef>
              <a:buClr>
                <a:srgbClr val="808080"/>
              </a:buClr>
              <a:buSzPct val="85000"/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Government should interfere minimally with the free and efficient workings of the market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44440" indent="-399960">
              <a:spcBef>
                <a:spcPts val="55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4519"/>
                </a:solidFill>
                <a:latin typeface="Comic Sans MS"/>
              </a:rPr>
              <a:t>Laissez fai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[“Leave things alone.”]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untJudy"/>
              </a:rPr>
              <a:t>Characteristics of Mercantilism</a:t>
            </a:r>
            <a:endParaRPr b="0" lang="en-US" sz="36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99036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808080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b4b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4b4b"/>
                </a:solidFill>
                <a:latin typeface="Comic Sans MS"/>
              </a:rPr>
              <a:t>Bullionism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eco. health of a nation could be measured by the amount of precious metal [gold or silver] which it posses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76320" indent="-344520">
              <a:spcBef>
                <a:spcPts val="550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rd’ money was the source of prosperity, prestige, and strength for a nation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487520" indent="-265320">
              <a:spcBef>
                <a:spcPts val="524"/>
              </a:spcBef>
              <a:buClr>
                <a:srgbClr val="b6b6b6"/>
              </a:buClr>
              <a:buSzPct val="14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xport more than you import [a trade surplus]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3" marL="2136600" indent="-342720">
              <a:spcBef>
                <a:spcPts val="476"/>
              </a:spcBef>
              <a:buClr>
                <a:srgbClr val="996600"/>
              </a:buClr>
              <a:buSzPct val="9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igh tariffs on imported manufactured good.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3" marL="2136600" indent="-342720">
              <a:spcBef>
                <a:spcPts val="476"/>
              </a:spcBef>
              <a:buClr>
                <a:srgbClr val="996600"/>
              </a:buClr>
              <a:buSzPct val="9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Low tariffs on imported raw materials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808080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ation must try to achieve econom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f-sufficien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76320" indent="-344520">
              <a:spcBef>
                <a:spcPts val="5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ose founding new industries should be rewarded by the state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untJudy"/>
              </a:rPr>
              <a:t>Characteristics of Mercantilism</a:t>
            </a:r>
            <a:endParaRPr b="0" lang="en-US" sz="36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00200" y="106668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iving agriculture should be carefully encourag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ess of need to import food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sperous farmers could provide a base for taxation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SzPct val="8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a power was necessary to control foreign marke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ess need to use the ships of other nations to carry your trade good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624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r own fleet adds to the power and prestige of the nation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AuntJudy"/>
              </a:rPr>
              <a:t>Characteristics of Mercantilism</a:t>
            </a:r>
            <a:endParaRPr b="0" lang="en-US" sz="36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39152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5. Colonies would provide captive markets for manufactured goods &amp; sources of raw materials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75"/>
              </a:spcBef>
              <a:buClr>
                <a:srgbClr val="808080"/>
              </a:buClr>
              <a:buSzPct val="85000"/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rade is a </a:t>
            </a:r>
            <a:r>
              <a:rPr b="0" lang="en-US" sz="2700" spc="-1" strike="noStrike">
                <a:solidFill>
                  <a:srgbClr val="ff4519"/>
                </a:solidFill>
                <a:latin typeface="Comic Sans MS"/>
              </a:rPr>
              <a:t>“zero-sum” game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1193760" indent="-341280">
              <a:spcBef>
                <a:spcPts val="575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 nation can gain in international trade only at the expense of other nation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200400" y="2257560"/>
            <a:ext cx="4543560" cy="1247760"/>
          </a:xfrm>
          <a:custGeom>
            <a:avLst/>
            <a:gdLst>
              <a:gd name="textAreaLeft" fmla="*/ 665280 w 4543560"/>
              <a:gd name="textAreaRight" fmla="*/ 3878280 w 4543560"/>
              <a:gd name="textAreaTop" fmla="*/ 182520 h 1247760"/>
              <a:gd name="textAreaBottom" fmla="*/ 1065240 h 12477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abe3c7"/>
          </a:solidFill>
          <a:ln w="9360">
            <a:solidFill>
              <a:srgbClr val="abe3c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AutoShape 6"/>
          <p:cNvSpPr/>
          <p:nvPr/>
        </p:nvSpPr>
        <p:spPr>
          <a:xfrm flipH="1" flipV="1">
            <a:off x="3199680" y="3628440"/>
            <a:ext cx="4543560" cy="1323720"/>
          </a:xfrm>
          <a:custGeom>
            <a:avLst/>
            <a:gdLst>
              <a:gd name="textAreaLeft" fmla="*/ 665280 w 4543560"/>
              <a:gd name="textAreaRight" fmla="*/ 3878280 w 4543560"/>
              <a:gd name="textAreaTop" fmla="*/ 193680 h 1323720"/>
              <a:gd name="textAreaBottom" fmla="*/ 1130040 h 13237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abe3c7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978360" y="2239920"/>
            <a:ext cx="3108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anufactured goods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124080" y="3962520"/>
            <a:ext cx="1447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Raw materials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9"/>
          <p:cNvSpPr/>
          <p:nvPr/>
        </p:nvSpPr>
        <p:spPr>
          <a:xfrm>
            <a:off x="2971800" y="2971800"/>
            <a:ext cx="1371600" cy="865080"/>
          </a:xfrm>
          <a:prstGeom prst="ellipse">
            <a:avLst/>
          </a:prstGeom>
          <a:solidFill>
            <a:srgbClr val="ffdb9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other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ountry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6553080" y="3276720"/>
            <a:ext cx="1371600" cy="865080"/>
          </a:xfrm>
          <a:prstGeom prst="ellipse">
            <a:avLst/>
          </a:prstGeom>
          <a:solidFill>
            <a:srgbClr val="ffdb9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olony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191120" y="4572000"/>
            <a:ext cx="2895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heap labor</a:t>
            </a:r>
            <a:endParaRPr b="1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Jean Baptiste Colbert </a:t>
            </a:r>
            <a:r>
              <a:rPr b="0" lang="en-US" sz="3800" spc="-1" strike="noStrike">
                <a:solidFill>
                  <a:srgbClr val="996600"/>
                </a:solidFill>
                <a:latin typeface="Bradley Gratis"/>
              </a:rPr>
              <a:t>[(1619-1683)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5160" y="1220760"/>
            <a:ext cx="388620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rchitect of French mercantilism or “Colbertism.”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 was a bullionis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re are four professions of importance to the nation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276480"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griculture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276480"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Trade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276480"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rmy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276480">
              <a:spcBef>
                <a:spcPts val="476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Navy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form weights &amp; measure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posed tolls on internal trad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7" descr="jean_baptiste_colbert"/>
          <p:cNvPicPr/>
          <p:nvPr/>
        </p:nvPicPr>
        <p:blipFill>
          <a:blip r:embed="rId1"/>
          <a:srcRect l="0" t="0" r="2085" b="0"/>
          <a:stretch/>
        </p:blipFill>
        <p:spPr>
          <a:xfrm>
            <a:off x="1600200" y="1373040"/>
            <a:ext cx="3352680" cy="388476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Jean Baptiste Colbert </a:t>
            </a:r>
            <a:r>
              <a:rPr b="0" lang="en-US" sz="3800" spc="-1" strike="noStrike">
                <a:solidFill>
                  <a:srgbClr val="996600"/>
                </a:solidFill>
                <a:latin typeface="Bradley Gratis"/>
              </a:rPr>
              <a:t>[(1619-1683)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upported mandatory labor on national roads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75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avored a large population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850320" indent="-311040">
              <a:spcBef>
                <a:spcPts val="575"/>
              </a:spcBef>
              <a:buClr>
                <a:srgbClr val="ac730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ather of 10 or more children would be exempt from taxes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75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avored low wages and child labor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6" descr="Colbert &amp; Louis XIV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8120" y="3672000"/>
            <a:ext cx="4495680" cy="2584440"/>
          </a:xfrm>
          <a:prstGeom prst="rect">
            <a:avLst/>
          </a:prstGeom>
          <a:ln w="9360">
            <a:solidFill>
              <a:srgbClr val="ac7300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3048120" y="6338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lbert &amp; Louis XIV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1976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untJudy"/>
              </a:rPr>
              <a:t>Who Benefited Most From Mercantilism?</a:t>
            </a:r>
            <a:endParaRPr b="0" lang="en-US" sz="3800" spc="-1" strike="noStrike">
              <a:solidFill>
                <a:srgbClr val="996600"/>
              </a:solidFill>
              <a:latin typeface="AuntJud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2133720"/>
            <a:ext cx="5562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arch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rchant capitalist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t-stock compani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03200" indent="-403200">
              <a:spcBef>
                <a:spcPts val="799"/>
              </a:spcBef>
              <a:buClr>
                <a:srgbClr val="808080"/>
              </a:buClr>
              <a:buSzPct val="85000"/>
              <a:buFont typeface="Comic Sans MS"/>
              <a:buChar char="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vernment offici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NoAmer-1750"/>
          <p:cNvPicPr/>
          <p:nvPr/>
        </p:nvPicPr>
        <p:blipFill>
          <a:blip r:embed="rId1"/>
          <a:stretch/>
        </p:blipFill>
        <p:spPr>
          <a:xfrm>
            <a:off x="1600200" y="1114560"/>
            <a:ext cx="6019920" cy="55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Text Box 3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50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2:32:30Z</dcterms:created>
  <dc:creator>Ms. Susan M. Pojer</dc:creator>
  <dc:description/>
  <dc:language>en-US</dc:language>
  <cp:lastModifiedBy>Kuenzi</cp:lastModifiedBy>
  <dcterms:modified xsi:type="dcterms:W3CDTF">2012-12-16T22:24:11Z</dcterms:modified>
  <cp:revision>65</cp:revision>
  <dc:subject/>
  <dc:title>From Mercantilism to Adam Smith:  The Evolution of the Modern Capitalist System</dc:title>
</cp:coreProperties>
</file>